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113-32F2-499D-A188-0EB0194B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6E9-26C5-44CC-83A5-78DCA5A7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7A81-4A7B-4232-83A1-6A99B8B0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B97E-F43E-4EA7-9F2A-C7D5C101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B581-FE61-4D24-A74F-C2BD45AF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823A-04F9-4817-8385-939F000E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FEDE-D327-463E-8E47-228FBC62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D071-A7D2-48AB-9924-9C4D43A8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62DC-CFF2-4179-9C6C-B12A0545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8D2A-FDF3-41C6-96F8-414659F5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3F8A-6175-4900-8872-B476DA63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686-90AA-4B85-9F46-C42DD879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D899-2872-4CFB-9135-3CAFD31B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95D2-07AD-444D-9C37-769C03B9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3494-BB3F-4999-96A8-C3EC3114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7456-EDE7-47F6-B0D6-6CE9C925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6D1E-1636-48CB-8558-5030C8F5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1C4EA-EE11-4DB3-8AE8-A834DD69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EB3AE-18EA-47C5-B1CB-82D9E3B3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8EA85-3E6E-4127-8738-2A66D94B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F6007-38BA-4853-99C2-45E88487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1B330-0875-4967-894C-3C42E40D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03F-F8D4-4427-B94F-781C88E6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AF421-3F09-403A-B87C-D2431901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83B2B-470B-4147-8A95-FACC1921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1894B-1640-4786-B9DE-5B14A54B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6BC2D-3C9B-4F3D-A896-1A6273E8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6293A-4E26-432A-9641-E7930145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CD754-AC05-426E-A64B-47C32C66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23A95-5BDF-4A7C-96F2-E5F3D285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C321D-4B1D-41BC-ABE2-3C1B5A29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FD68E-64F5-4F4F-A4FD-B81009C5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0F857-5AE8-40C6-8201-B8AE1D7C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FBC-6837-4CFF-8E21-4BCCB819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6CBCE-ED72-41E5-AE24-9EC8F759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21A99-8EBF-446C-BF2B-EB0CCD1E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09A3A-7D7E-4EDF-902F-C54AFA98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42A39-F19C-46B6-9B3B-DADAE426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9DA12-7BAB-4605-9909-57B495EB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6A948-4D22-49E7-87A3-BE51C325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6285F-B9CB-4BCD-B75C-9D622B2A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B7B18-0FD0-40E1-A085-740B0B7F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422B4-1438-45EC-BC04-A87B2172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601-B989-4634-A672-33CAAFD2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9734-9D04-464E-AAF9-3B0BEC93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678-0D7A-4D93-8F64-D5877713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50E-EE00-47B9-8371-6B339D7C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BD1D-83CB-47B0-8F13-4D5128AA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E530-9612-4331-ABF8-BCAD17B582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8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5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61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65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3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118A-C82A-497C-BD66-4CAC835E1BB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2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34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38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2572-0307-45E7-B576-A137A150D6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82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83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7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01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05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9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13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077C-7176-4F84-9588-D6D2ED43CC8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38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Внеклассное мероприятие </a:t>
            </a:r>
            <a:br>
              <a:rPr sz="3600"/>
            </a:b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Семейная гостиная: «Школьные годы чудесные…»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7161120" cy="32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ой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8-9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уева В.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ОУ «ИСОШ» корпус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475920"/>
            <a:ext cx="82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Verdana"/>
              </a:rPr>
              <a:t>Творческое</a:t>
            </a:r>
            <a:r>
              <a:rPr b="0" lang="ru-RU" sz="4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Verdana"/>
              </a:rPr>
              <a:t>дело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716000" y="1557360"/>
            <a:ext cx="1150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7" name="Picture 4" descr="PE01977_"/>
          <p:cNvPicPr/>
          <p:nvPr/>
        </p:nvPicPr>
        <p:blipFill>
          <a:blip r:embed="rId1"/>
          <a:stretch/>
        </p:blipFill>
        <p:spPr>
          <a:xfrm>
            <a:off x="2484360" y="134136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6919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Verdana"/>
              </a:rPr>
              <a:t>Взаимодействие и взаимопонимание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900000" y="1694880"/>
            <a:ext cx="209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PE03329A"/>
          <p:cNvPicPr/>
          <p:nvPr/>
        </p:nvPicPr>
        <p:blipFill>
          <a:blip r:embed="rId1"/>
          <a:srcRect l="12207" t="42566" r="13492" b="7509"/>
          <a:stretch/>
        </p:blipFill>
        <p:spPr>
          <a:xfrm>
            <a:off x="1893960" y="2690640"/>
            <a:ext cx="3733560" cy="175284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9"/>
          <p:cNvSpPr/>
          <p:nvPr/>
        </p:nvSpPr>
        <p:spPr>
          <a:xfrm>
            <a:off x="1042920" y="4442760"/>
            <a:ext cx="64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ник              Родител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764640"/>
            <a:ext cx="824400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Структура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 педагогической гостиной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редставление гост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изитная карточ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оспоминания о прошло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Дружеский сувенир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(что я вам принёс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едагогический анекдо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Творческое дел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ефлекс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(стоя в прихожей, я хочу сказать…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666"/>
                </a:solidFill>
                <a:uFillTx/>
                <a:latin typeface="Verdana"/>
              </a:rPr>
              <a:t>Визитная карточк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488680" y="2133360"/>
            <a:ext cx="614700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им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твоё любимое занят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какое качество больше всего цените в людях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475920"/>
            <a:ext cx="82440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Семейная гостиная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«Школьные годы чудесные…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rcRect l="0" t="7620" r="301" b="25106"/>
          <a:stretch/>
        </p:blipFill>
        <p:spPr>
          <a:xfrm>
            <a:off x="1258920" y="2809800"/>
            <a:ext cx="72007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6666"/>
                </a:solidFill>
                <a:uFillTx/>
                <a:latin typeface="Verdana"/>
              </a:rPr>
              <a:t>Воспоминания о прошлом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3" name="Picture 5" descr="IMG_2120"/>
          <p:cNvPicPr/>
          <p:nvPr/>
        </p:nvPicPr>
        <p:blipFill>
          <a:blip r:embed="rId1"/>
          <a:srcRect l="0" t="0" r="19610" b="18748"/>
          <a:stretch/>
        </p:blipFill>
        <p:spPr>
          <a:xfrm>
            <a:off x="395280" y="1628640"/>
            <a:ext cx="3882960" cy="2667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IMG_2119"/>
          <p:cNvPicPr/>
          <p:nvPr/>
        </p:nvPicPr>
        <p:blipFill>
          <a:blip r:embed="rId2"/>
          <a:srcRect l="0" t="0" r="40617" b="-74"/>
          <a:stretch/>
        </p:blipFill>
        <p:spPr>
          <a:xfrm>
            <a:off x="4859280" y="2349360"/>
            <a:ext cx="3673440" cy="3916440"/>
          </a:xfrm>
          <a:prstGeom prst="rect">
            <a:avLst/>
          </a:prstGeom>
          <a:ln w="0">
            <a:noFill/>
          </a:ln>
        </p:spPr>
      </p:pic>
      <p:pic>
        <p:nvPicPr>
          <p:cNvPr id="275" name="07 Дорожка 7.wma" descr=""/>
          <p:cNvPicPr/>
          <p:nvPr/>
        </p:nvPicPr>
        <p:blipFill>
          <a:blip r:embed="rId3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6226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403280" y="1125360"/>
            <a:ext cx="6769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-38196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rcRect l="22040" t="38711" r="67861" b="681"/>
          <a:stretch/>
        </p:blipFill>
        <p:spPr>
          <a:xfrm>
            <a:off x="1952640" y="692280"/>
            <a:ext cx="1682640" cy="5184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42800" y="549360"/>
            <a:ext cx="82440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Verdana"/>
              </a:rPr>
              <a:t>Дружеский</a:t>
            </a: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4400" spc="-1" strike="noStrike" u="sng">
                <a:solidFill>
                  <a:srgbClr val="0000ff"/>
                </a:solidFill>
                <a:uFillTx/>
                <a:latin typeface="Verdana"/>
              </a:rPr>
              <a:t>сувенир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1" name="Picture 4" descr="C24-17"/>
          <p:cNvPicPr/>
          <p:nvPr/>
        </p:nvPicPr>
        <p:blipFill>
          <a:blip r:embed="rId1"/>
          <a:stretch/>
        </p:blipFill>
        <p:spPr>
          <a:xfrm>
            <a:off x="1835280" y="1700280"/>
            <a:ext cx="496872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Verdana"/>
              </a:rPr>
              <a:t>Педагогический</a:t>
            </a: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4400" spc="-1" strike="noStrike" u="sng">
                <a:solidFill>
                  <a:srgbClr val="0000ff"/>
                </a:solidFill>
                <a:uFillTx/>
                <a:latin typeface="Verdana"/>
              </a:rPr>
              <a:t>анекдо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4" name="Picture 4" descr="C03-11"/>
          <p:cNvPicPr/>
          <p:nvPr/>
        </p:nvPicPr>
        <p:blipFill>
          <a:blip r:embed="rId1"/>
          <a:stretch/>
        </p:blipFill>
        <p:spPr>
          <a:xfrm>
            <a:off x="2124000" y="1844640"/>
            <a:ext cx="55436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11:58:53Z</dcterms:created>
  <dc:creator>*</dc:creator>
  <dc:description/>
  <dc:language>en-US</dc:language>
  <cp:lastModifiedBy>Пользователь Windows</cp:lastModifiedBy>
  <dcterms:modified xsi:type="dcterms:W3CDTF">2022-09-25T14:15:08Z</dcterms:modified>
  <cp:revision>13</cp:revision>
  <dc:subject/>
  <dc:title>Внеклассное мероприятие  на конкурс  «Классный руководитель  2008-2009»</dc:title>
</cp:coreProperties>
</file>